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510-7EA5-455E-ADFC-792A9E97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48D-E92D-40B1-B7AF-0DD189C4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4B6-E291-4E19-AE16-618A5340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74C-C544-4919-B768-4CBF4214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8A1-F652-4346-A7C1-93BBA0A1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B85-ACF0-43D1-ADEC-778993CB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AB7-6480-454A-BD1A-E9C1B42D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6B5-D845-4EDA-B9B7-FE5E4E5F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5FF-A3E5-4D89-A285-27815570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234-318B-4FD3-B2AF-858E231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483-3DFD-45E0-BC20-5A1D0B52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303-427D-4BDA-95D7-5466428F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B740-AA53-42F3-ADC3-124B5460D2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evezetés a programozásb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ximum,minimum kiválasztá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áltozó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 : egés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X : tömb (1..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X: egés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axkiválasztás(N,X,MA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X:=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I=2 től N 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a X(MAX)&lt;X(I) akkor MAX:=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axkiválasztás(N,X,MAX,MAXER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X:=1,MAXERT:=X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I=2 től N 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a MAXERT &lt; X(I) akkor MAX:=I, MAXERT:=x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nimum kiválasztásnál nagyobb helyett kisebbet vizsgál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ásolá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1: egy szöveg minden magánhangzóját cseréljük ki az e betű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lgorit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üggvé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: H_elemtípus </a:t>
            </a:r>
            <a:r>
              <a:rPr b="0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G_elemtí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ltozó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 : eg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X : tömb(1..N:H_elemtíp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Y : tömb(1..N:G_elemtíp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ásolás(N,X,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i=1 től N 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Y(i):=F(X(i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iválogatá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2: adjuk meg egy osztály azon tanulóit, akik jeles átlagú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lgorit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üggvé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: Elemtípus </a:t>
            </a:r>
            <a:r>
              <a:rPr b="1" lang="hu-HU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áltozó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 :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X : tömb(1..N:Elemtípu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B :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Y : tömb(1..N:Egés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válogatás(N,X,Y,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B: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i=1 től N 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 T(X(i) akkor DB:=DB+1, Y(DB):=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ndezése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szerű cseré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 ill. max kiválasztáso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uboréko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-1 –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illesztése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-1 –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gyszerű cserés rende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I=1 től N-1 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J=I+1 től N 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X(I) &gt; X(J) akkor csere(X(I),X(J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00"/>
                </a:solidFill>
                <a:latin typeface="Arial"/>
              </a:rPr>
              <a:t>Min. ill. max. kiválasztásos rendezé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I=1 től N-1 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:=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J=I+1 től N 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X(MIN) &gt; X(J) akkor MIN:=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sere(X(I),X(MIN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uborékos rende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I=N től 2 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J=1 től I-1 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 X(J)&gt;X(J+1) akkor csere(X(J),X(J+1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Javított Rendezés(N,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:=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amíg I &gt;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S: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J=1 től I-1 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 X(J)&gt;X(J+1) akkor csere(X(J),X(J+1)),CS:=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I:=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eillesztéses rende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I=2 től N 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:=I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amíg J&gt; 0 és X(J) &gt; X(J+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sere (X(J),X(J+1)), J:=J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8:33:48Z</dcterms:created>
  <dc:creator>Nagymáté Péter</dc:creator>
  <dc:description/>
  <dc:language>en-US</dc:language>
  <cp:lastModifiedBy>Nagymáté Péter</cp:lastModifiedBy>
  <dcterms:modified xsi:type="dcterms:W3CDTF">2004-04-22T09:06:51Z</dcterms:modified>
  <cp:revision>5</cp:revision>
  <dc:subject/>
  <dc:title>Bevezetés a programozásba</dc:title>
</cp:coreProperties>
</file>